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114-DC69-4D4A-BC82-933714B5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71D-7093-4B7F-A074-1BD7F7BD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5C1-8507-4D15-94D7-FFD49AA2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A43-D9EF-48A2-9552-22FF1722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CDF-7C92-454C-8779-D567263B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DD8-7C41-4CC1-9991-F6E4F669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B12-EF8B-4F54-BAB2-4AC0223F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C1A-017B-49D4-BC79-1D9DE682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A02-34C9-4426-8086-142C7775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025-5D40-4025-B81F-6B488632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3F8-FFD6-4493-9DB5-FC18C43F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5D1-FF7D-45D6-9A7E-5055901E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CC20-33EC-4E05-BA3F-594B7F8C9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liam Pierce Senior 09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ing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124452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ve Choice: Cross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4872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ve Choice: Cross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3556080" cy="5486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3583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ve Choice: Cross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312920"/>
            <a:ext cx="80769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ve Choice: Cross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8160" y="1143000"/>
            <a:ext cx="3598920" cy="556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3578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ve Choice: Cross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07696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 Credit: Color R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 Credit: Color R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 Credit: Color R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68480" y="1143000"/>
            <a:ext cx="3745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 Credit: Color R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82296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o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194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 Credit: Color R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ulating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79440" y="1295280"/>
            <a:ext cx="4040280" cy="5257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290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ulating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197240" cy="5410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1781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ulating Shutter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19376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ulating Shutter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ulating Shutter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D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2800" y="1870200"/>
            <a:ext cx="591660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1709640"/>
            <a:ext cx="5639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206600" cy="525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7360" y="1219320"/>
            <a:ext cx="4316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r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89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1171440"/>
            <a:ext cx="69343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ho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int With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214280"/>
            <a:ext cx="73915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f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ing Fr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ing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292"/>
            </a:gs>
            <a:gs pos="50000">
              <a:srgbClr val="f2f2f2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ing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4:42:02Z</dcterms:created>
  <dc:creator>Default User</dc:creator>
  <dc:description/>
  <dc:language>en-US</dc:language>
  <cp:lastModifiedBy>C</cp:lastModifiedBy>
  <dcterms:modified xsi:type="dcterms:W3CDTF">2009-05-22T21:58:14Z</dcterms:modified>
  <cp:revision>15</cp:revision>
  <dc:subject/>
  <dc:title>Slide 1</dc:title>
</cp:coreProperties>
</file>